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67B-9D0C-4015-B64E-E4BD1414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4EF-DD6C-4BFB-9FD9-F469DA97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274-1353-405E-92FE-7C4000C3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979-34F5-4553-AEB2-9945E230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ACC7-63D4-4E51-A7D5-F29094CE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5BBE-1602-48D8-9225-D09E0B1D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2136-945B-4DF6-BD39-BC0BC3AA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BB7C-048B-4A8B-847E-98BC6E7F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5766-7C1D-4ABF-A425-4ECAA2BE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29A3-9A76-4631-B51C-A7BD126E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CC03-2E74-4CA0-92DC-9A5D2735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50C-DE05-4FF5-A854-A6A0D7E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46F3-BF6E-40F5-9F6E-88676B3A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762F-42F1-40A5-A2C8-C881711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35BD-25B0-4CE4-95C7-592A6CAD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C38D-7D0F-4A3B-8A66-542F8D7A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F1B9-FE8F-4D8E-A6D4-ED35858D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03E-4E65-4146-9FDD-162C42EA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ACD-A28E-4DFB-A310-59EB7902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67E-5254-4ED0-B9BE-30F68C7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02C-DCBF-48F0-B3BC-E3B15488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1FA-5AD2-4AB5-A510-3201C6CB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AD7-ED5E-4917-94C6-B65DBD3A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7B2-CB84-418C-A253-D91F7A3B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F456-44B4-4685-8C96-1DBDA6CEE0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16002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443F-FD1E-43FD-98E6-07B94A017D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IB9ZcZRrMg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9/4  Characteristics of Science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1447920"/>
            <a:ext cx="48769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609480" indent="-609480" algn="r">
              <a:spcBef>
                <a:spcPts val="700"/>
              </a:spcBef>
              <a:buClr>
                <a:srgbClr val="80004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ick up all biology handouts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r">
              <a:spcBef>
                <a:spcPts val="700"/>
              </a:spcBef>
              <a:buClr>
                <a:srgbClr val="80004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ach table, come up with your answer to these questions: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hat makes something scientific?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hat sets science apart from other fields?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rcRect l="153704" t="958750" r="354630" b="479375"/>
          <a:stretch/>
        </p:blipFill>
        <p:spPr>
          <a:xfrm>
            <a:off x="0" y="5062680"/>
            <a:ext cx="3505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Us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, what is astrolog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TABL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im makes predictions based upon the proposed mechanis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: Any argument offered as evidence to support a claim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actually accurate, to the best of our knowled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alid, its conclusion following inevitably from its premises.  Invalid: "All dogs have fleas and Xavier has fleas; therefore Xavier is a dog."  Valid: "All dogs have fleas and Xavier is a dog; therefore Xavier has fleas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urden of proof rests on the claim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xtraordinary claims demand extraordinary evidence.  "It rained for ten minutes on Tuesday" vs.  "Human beings are actually meant to live underwater.”  Could I accept your personal report for bot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352320" y="228600"/>
            <a:ext cx="57913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BLE: The evidence can be observed using one of the five human senses, or using a demonstrated technological extension of a sense, such as a microscope or thermometer.  All available evidence is conside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BLE: The claim is testable, and it must be possible for those controlled experiments to be repeated, obtaining more evidence from subsequent trials and tests.  If you cannot think of a way to experimentally obtain evidence for or against a claim, it may not meet replic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360" y="152280"/>
            <a:ext cx="7010280" cy="64771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:  Natural pertains to the physical or material world, limited to nature only.  If either the mechanism or the phenomenon is supernatural, this condition is not m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ATIVE:  It must be possible to conceive of evidence that would prove the claim false.  This includes no "multiple outs," which are claims where a falsification result is bound to be the fault of an observer, making it impossible for the claim to be disprov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Us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5486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astrology science, pseudoscience, or non-sci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Practicing PLORNT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9000" y="1676520"/>
            <a:ext cx="5486400" cy="4572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able groups, analyze two claims using PLORNT.  Fill out the worksheet for ea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descriptive!  Give evide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everybody’s done, a representative from each group will report their claim, their decision, and their justif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sh early?  Analyze extra claims for stickers!  (Remember, stickers = extra cred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rap-Up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7760" y="1980720"/>
            <a:ext cx="6095880" cy="48769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’s the difference between science, non-science and pseudosci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es it mat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your ide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bout things like this?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http://www.youtube.com/watch?v=IB9ZcZRrMg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mework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8120" y="1981080"/>
            <a:ext cx="54100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 safety contract and student questionnaire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 do you think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5486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akes something scientifi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sets science apart from other field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65040" y="6143760"/>
            <a:ext cx="855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 is the tension between creativity and skepticism that has produced the stunning and unexpected findings of science.” -Carl S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w can you tell…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6386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mething is scientific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LOR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c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erv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li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How can you tell…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cience: Satisfies all 6 PLOR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seudoscience: Does not satisfy all 6 PLORNT, claims to be sc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science: Does not satisfy all 6 PLORNT, does not claim to be sc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ing PLORNT: Analyzing astrology - do birthdates reliably correspond with personality characteristic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it a science, pseudoscience, or non-scie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29000" y="1981080"/>
            <a:ext cx="50292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Popcorn read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On your piece of paper, write your birthdate (month and day), and the number for your personality trait clus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Before we reveal the answer…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(fraction) that you’d choose the “right” number just by cha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any students in this class would probably choose the “right” number just by cha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What’s Your Sign?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 your slip to your righ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swers ar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17:19:27Z</dcterms:created>
  <dc:creator>Rebecca Stang</dc:creator>
  <dc:description/>
  <dc:language>en-US</dc:language>
  <cp:lastModifiedBy>Rebecca Stang</cp:lastModifiedBy>
  <dcterms:modified xsi:type="dcterms:W3CDTF">2008-09-01T01:38:29Z</dcterms:modified>
  <cp:revision>12</cp:revision>
  <dc:subject/>
  <dc:title>9/4  Characteristics of Science</dc:title>
</cp:coreProperties>
</file>